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C7B-329A-4F4A-9B89-C792B68C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43B-7BF2-4DD6-BBC9-316E96D1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016-F67F-4872-B29C-8DC02CB8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13C-45F6-46A1-BB7F-6059A35F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035-27AE-4B12-A418-E903FA5C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2C5-7863-4323-93F2-3ABA0D54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CB7-D607-461A-A25E-EF37542C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795-FB0C-4E5A-91E7-6B1EFABF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0BC-785F-426A-A00A-96C1E9AD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C58-0088-448B-91D2-F36EB4AD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F44-92F0-4D5C-92EE-D1D2AA2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47D-D9BE-426E-8520-46E3AB2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615F725-9052-4DEB-B776-0195538DC0D7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886880" cy="20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راهنمای ثبت آموزش های گروهی برنامه های سلامت خانواده در سامانه سیب </a:t>
            </a:r>
            <a:br>
              <a:rPr sz="3300"/>
            </a:br>
            <a:br>
              <a:rPr sz="3300"/>
            </a:b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تیر ماه </a:t>
            </a:r>
            <a:r>
              <a:rPr b="0" lang="fa-IR" sz="3300" spc="-1" strike="noStrike">
                <a:solidFill>
                  <a:srgbClr val="000000"/>
                </a:solidFill>
                <a:latin typeface="Calibri Light"/>
                <a:ea typeface="B Nazanin"/>
              </a:rPr>
              <a:t>140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rcRect l="4260" t="18133" r="2270" b="35728"/>
          <a:stretch/>
        </p:blipFill>
        <p:spPr>
          <a:xfrm>
            <a:off x="87480" y="1989000"/>
            <a:ext cx="8969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3262" t="8588" r="1276" b="35728"/>
          <a:stretch/>
        </p:blipFill>
        <p:spPr>
          <a:xfrm>
            <a:off x="250920" y="1916280"/>
            <a:ext cx="8918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rcRect l="3262" t="8588" r="1276" b="40503"/>
          <a:stretch/>
        </p:blipFill>
        <p:spPr>
          <a:xfrm>
            <a:off x="179280" y="115920"/>
            <a:ext cx="8713800" cy="3457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316080" y="3860640"/>
            <a:ext cx="86994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در سامانه سیب و امکان گزارش گیری در سامانه راستی آزمای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360" y="1052280"/>
            <a:ext cx="9001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ثبت دوره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rcRect l="34465" t="7643" r="0" b="31878"/>
          <a:stretch/>
        </p:blipFill>
        <p:spPr>
          <a:xfrm>
            <a:off x="4756320" y="2201760"/>
            <a:ext cx="424476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33320" t="8185" r="0" b="30063"/>
          <a:stretch/>
        </p:blipFill>
        <p:spPr>
          <a:xfrm>
            <a:off x="63360" y="3933720"/>
            <a:ext cx="46022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گروهی در سامانه سیب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rcRect l="0" t="7282" r="2341" b="5405"/>
          <a:stretch/>
        </p:blipFill>
        <p:spPr>
          <a:xfrm>
            <a:off x="-25560" y="1020600"/>
            <a:ext cx="927756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</a:t>
            </a: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ثبت دوره ی جدید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تاریخ شروع دوره: قابلیت ثبت دوره برای تاریخ قبل، حال و آیند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دوره : انتخابی است – به عناون مثال : تایپ سالمند و انتخاب گزینه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لمندی سالم (برنامه هر خانه یک پایگاه سلامت)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محل ارائه خدمت : انتخاب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49811" t="26809" r="3344" b="42258"/>
          <a:stretch/>
        </p:blipFill>
        <p:spPr>
          <a:xfrm>
            <a:off x="2484360" y="1903320"/>
            <a:ext cx="45356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25911" t="32251" r="18627" b="29379"/>
          <a:stretch/>
        </p:blipFill>
        <p:spPr>
          <a:xfrm>
            <a:off x="468360" y="4626000"/>
            <a:ext cx="4994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55280" y="883800"/>
            <a:ext cx="5929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1800"/>
            </a:b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08000" y="1630440"/>
            <a:ext cx="67500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4- </a:t>
            </a:r>
            <a:r>
              <a:rPr b="1" lang="fa-IR" sz="1300" spc="-1" strike="noStrike">
                <a:solidFill>
                  <a:srgbClr val="000000"/>
                </a:solidFill>
                <a:latin typeface="Trebuchet MS"/>
                <a:cs typeface="B Nazanin"/>
              </a:rPr>
              <a:t>عنوان محل ارائه خدمت : غیر انتخابی و باید کلمه کلیدی به عنوان مثال ورزش تایپ شود</a:t>
            </a: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43000" y="2293920"/>
            <a:ext cx="6939000" cy="220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1763640" y="3537000"/>
            <a:ext cx="1079640" cy="4316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181440" y="1031400"/>
            <a:ext cx="9325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ظرفیت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غیر انتخابی و لزوم ثبت افراد فراخوان شده و سپس حضور یاف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گروه مخاطب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یر"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را انتخاب نمایی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والدین، کارمند، عموم مردم، سفیر سلامت خانواده، رابط سلامت،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ی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7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بسته کمک آموزشی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بسته به مورد، انتخاب می شود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پمفلت،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CD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، کتابچه، سایر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64601" t="25843" r="4176" b="25927"/>
          <a:stretch/>
        </p:blipFill>
        <p:spPr>
          <a:xfrm>
            <a:off x="-36360" y="1030320"/>
            <a:ext cx="306864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50003" t="25986" r="4546" b="32806"/>
          <a:stretch/>
        </p:blipFill>
        <p:spPr>
          <a:xfrm>
            <a:off x="22320" y="4221000"/>
            <a:ext cx="4319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181440" y="765000"/>
            <a:ext cx="932508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یوه آموزش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ی، پرسش و پاسخ انتخاب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9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کد ملی مسئول دوره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کد ملی پزشک مسئول مرکز یا یکی از ارائه دهنده خدمت ثبت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تایپ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0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ماره ملی مدرس: 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لزام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–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عت شروع و پایان د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: الزامی و هم قابل تایپ و هم انتخاب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rcRect l="31858" t="26507" r="3612" b="28644"/>
          <a:stretch/>
        </p:blipFill>
        <p:spPr>
          <a:xfrm>
            <a:off x="971640" y="1292400"/>
            <a:ext cx="4475160" cy="194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55280" y="883800"/>
            <a:ext cx="5929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1800"/>
            </a:b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08000" y="1630440"/>
            <a:ext cx="67500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3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113" t="17780" r="1761" b="11376"/>
          <a:stretch/>
        </p:blipFill>
        <p:spPr>
          <a:xfrm>
            <a:off x="1185840" y="1531800"/>
            <a:ext cx="6797520" cy="405792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6"/>
          <p:cNvSpPr/>
          <p:nvPr/>
        </p:nvSpPr>
        <p:spPr>
          <a:xfrm>
            <a:off x="4896000" y="5275440"/>
            <a:ext cx="593640" cy="27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09640" y="2673360"/>
            <a:ext cx="971640" cy="216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410000" y="4811760"/>
            <a:ext cx="1079640" cy="280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4410000" y="5232240"/>
            <a:ext cx="1079640" cy="300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ffffff"/>
                </a:solidFill>
                <a:latin typeface="Calibri"/>
                <a:cs typeface="B Mitra"/>
              </a:rPr>
              <a:t>فعالیت بدن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فهرست دوره ها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32378" t="7509" r="1711" b="31441"/>
          <a:stretch/>
        </p:blipFill>
        <p:spPr>
          <a:xfrm>
            <a:off x="457200" y="2565360"/>
            <a:ext cx="7129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.R.I</cp:lastModifiedBy>
  <dcterms:modified xsi:type="dcterms:W3CDTF">2024-09-18T04:30:33Z</dcterms:modified>
  <cp:revision>615</cp:revision>
  <dc:subject/>
  <dc:title>Diapositiva 1</dc:title>
</cp:coreProperties>
</file>