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055-36BA-417B-9FD4-B6BAAE81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05D-2FEE-4DE3-A555-74D8B7C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901-0A60-4083-80BF-68D2BD99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829-26CE-4833-B294-5C7A32DA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E27-3265-46AD-A858-99F7607C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302-EB31-4785-A51B-AC599FF9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638-0F15-461D-A5A5-5F7BFED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6CD-6140-4BFA-8E11-864E3A5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F8C-4A50-4441-86E8-CFAC8347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6C0-95BA-4EB8-8D43-D6341786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094-3146-4DB5-A85D-4245E2B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05A-D226-4D34-87A5-12BE3A6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26B2ADF-994C-497C-9069-970B95D585C1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8868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راهنمای ثبت آموزش های گروهی برنامه های سلامت خانواده در سامانه سیب </a:t>
            </a:r>
            <a:br>
              <a:rPr sz="3300"/>
            </a:br>
            <a:br>
              <a:rPr sz="3300"/>
            </a:br>
            <a:r>
              <a:rPr b="0" lang="fa-IR" sz="3300" spc="-1" strike="noStrike">
                <a:solidFill>
                  <a:srgbClr val="000000"/>
                </a:solidFill>
                <a:latin typeface="Calibri Light"/>
                <a:cs typeface="B Nazanin"/>
              </a:rPr>
              <a:t>تیر ماه </a:t>
            </a:r>
            <a:r>
              <a:rPr b="0" lang="fa-IR" sz="3300" spc="-1" strike="noStrike">
                <a:solidFill>
                  <a:srgbClr val="000000"/>
                </a:solidFill>
                <a:latin typeface="Calibri Light"/>
                <a:ea typeface="B Nazanin"/>
              </a:rPr>
              <a:t>140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4260" t="18133" r="2270" b="35728"/>
          <a:stretch/>
        </p:blipFill>
        <p:spPr>
          <a:xfrm>
            <a:off x="87480" y="1989000"/>
            <a:ext cx="89690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rcRect l="3262" t="8588" r="1276" b="35728"/>
          <a:stretch/>
        </p:blipFill>
        <p:spPr>
          <a:xfrm>
            <a:off x="250920" y="1916280"/>
            <a:ext cx="89186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fa-IR" sz="3300" spc="-1" strike="noStrike">
              <a:solidFill>
                <a:srgbClr val="000000"/>
              </a:solidFill>
              <a:latin typeface="Calibri Light"/>
              <a:ea typeface="Times New Roman"/>
            </a:endParaRPr>
          </a:p>
        </p:txBody>
      </p:sp>
      <p:pic>
        <p:nvPicPr>
          <p:cNvPr id="76" name="Content Placeholder 3" descr=""/>
          <p:cNvPicPr/>
          <p:nvPr/>
        </p:nvPicPr>
        <p:blipFill>
          <a:blip r:embed="rId1"/>
          <a:srcRect l="3262" t="8588" r="1276" b="40503"/>
          <a:stretch/>
        </p:blipFill>
        <p:spPr>
          <a:xfrm>
            <a:off x="179280" y="115920"/>
            <a:ext cx="871380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316080" y="3860640"/>
            <a:ext cx="86994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در سامانه سیب و امکان گزارش گیری در سامانه راستی آزمای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360" y="1052280"/>
            <a:ext cx="9001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ثبت دوره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rcRect l="34465" t="7643" r="0" b="31878"/>
          <a:stretch/>
        </p:blipFill>
        <p:spPr>
          <a:xfrm>
            <a:off x="4756320" y="2201760"/>
            <a:ext cx="424476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33320" t="8185" r="0" b="30063"/>
          <a:stretch/>
        </p:blipFill>
        <p:spPr>
          <a:xfrm>
            <a:off x="63360" y="3933720"/>
            <a:ext cx="460224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امکان ثبت دوره های آموزش گروهی در سامانه سیب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rcRect l="0" t="7282" r="2341" b="5405"/>
          <a:stretch/>
        </p:blipFill>
        <p:spPr>
          <a:xfrm>
            <a:off x="-25560" y="1020600"/>
            <a:ext cx="927756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</a:t>
            </a:r>
            <a:r>
              <a:rPr b="0" lang="fa-IR" sz="2400" spc="-1" strike="noStrike">
                <a:solidFill>
                  <a:srgbClr val="003296"/>
                </a:solidFill>
                <a:latin typeface="Calibri Light"/>
                <a:cs typeface="B Nazanin"/>
              </a:rPr>
              <a:t>ثبت دوره ی جدید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تاریخ شروع دوره: قابلیت ثبت دوره برای تاریخ قبل، حال و آیند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2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دوره : انتخابی است – به عناون مثال : تایپ سالمند و انتخاب گزینه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لمندی سالم (برنامه هر خانه یک پایگاه سلامت)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3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محل ارائه خدمت : انتخاب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49811" t="26809" r="3344" b="42258"/>
          <a:stretch/>
        </p:blipFill>
        <p:spPr>
          <a:xfrm>
            <a:off x="2484360" y="1903320"/>
            <a:ext cx="4535640" cy="18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25911" t="32251" r="18627" b="29379"/>
          <a:stretch/>
        </p:blipFill>
        <p:spPr>
          <a:xfrm>
            <a:off x="468360" y="4626000"/>
            <a:ext cx="49942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4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عنوان محل ارائه خدمت : غیر انتخابی و باید کلمه کلیدی به عنوان مثال ورزش تایپ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25200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181440" y="1031400"/>
            <a:ext cx="9325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5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ظرفیت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غیر انتخابی و لزوم ثبت افراد فراخوان شده و سپس حضور یاف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6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گروه مخاطب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ea typeface="B Nazanin"/>
              </a:rPr>
              <a:t>"سایر"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را انتخاب نمایی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والدین، کارمند، عموم مردم، سفیر سلامت خانواده، رابط سلامت،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ی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7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بسته کمک آموزشی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بسته به مورد، انتخاب می شود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پمفلت،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CD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، کتابچه، سایر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64601" t="25843" r="4176" b="25927"/>
          <a:stretch/>
        </p:blipFill>
        <p:spPr>
          <a:xfrm>
            <a:off x="-36360" y="1030320"/>
            <a:ext cx="306864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50003" t="25986" r="4546" b="32806"/>
          <a:stretch/>
        </p:blipFill>
        <p:spPr>
          <a:xfrm>
            <a:off x="22320" y="4221000"/>
            <a:ext cx="43196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ثبت ظرفیت، گروه مخاطب و بسته کمک آموزشی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181440" y="765000"/>
            <a:ext cx="932508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8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یوه آموزش 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نتخابی است و از بین گزینه های، پرسش و پاسخ انتخاب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9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کد ملی مسئول دوره: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کد ملی پزشک مسئول مرکز یا یکی از ارائه دهنده خدمت ثبت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تایپ ش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0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شماره ملی مدرس: 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cs typeface="B Nazanin"/>
              </a:rPr>
              <a:t>الزامی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– </a:t>
            </a:r>
            <a:r>
              <a:rPr b="1" lang="fa-IR" sz="1800" spc="-1" strike="noStrike">
                <a:solidFill>
                  <a:srgbClr val="ff0000"/>
                </a:solidFill>
                <a:latin typeface="Trebuchet MS"/>
                <a:cs typeface="B Nazanin"/>
              </a:rPr>
              <a:t>ساعت شروع و پایان دوره 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: الزامی و هم قابل تایپ و هم انتخاب اس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31858" t="26507" r="3612" b="28644"/>
          <a:stretch/>
        </p:blipFill>
        <p:spPr>
          <a:xfrm>
            <a:off x="971640" y="1292400"/>
            <a:ext cx="4475160" cy="194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4560"/>
            <a:ext cx="7904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مهم ترین فیلد برای ثبت و گزارش گیری </a:t>
            </a:r>
            <a:br>
              <a:rPr sz="2400"/>
            </a:br>
            <a:r>
              <a:rPr b="1" lang="fa-IR" sz="2400" spc="-1" strike="noStrike">
                <a:solidFill>
                  <a:srgbClr val="ff0000"/>
                </a:solidFill>
                <a:latin typeface="Trebuchet MS"/>
                <a:cs typeface="B Nazanin"/>
              </a:rPr>
              <a:t>عنوان محل ارائه خدمت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181440" y="103140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4113" t="17780" r="1761" b="11376"/>
          <a:stretch/>
        </p:blipFill>
        <p:spPr>
          <a:xfrm>
            <a:off x="57240" y="898560"/>
            <a:ext cx="906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Rounded Rectangle 1"/>
          <p:cNvSpPr/>
          <p:nvPr/>
        </p:nvSpPr>
        <p:spPr>
          <a:xfrm>
            <a:off x="1403280" y="2492280"/>
            <a:ext cx="647640" cy="2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5003640" y="5373720"/>
            <a:ext cx="792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5003640" y="589104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0000"/>
                </a:solidFill>
                <a:latin typeface="Calibri"/>
                <a:cs typeface="B Nazanin"/>
              </a:rPr>
              <a:t>ورز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rebuchet MS"/>
                <a:cs typeface="B Nazanin"/>
              </a:rPr>
              <a:t>نحوه ثبت شرکت کنندگان در دوره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1</a:t>
            </a: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- با کاربر ارائه دهندگان خدمت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Trebuchet MS"/>
                <a:ea typeface="B Nazanin"/>
              </a:rPr>
              <a:t> منوی ارائه خدمت – سفیران سلامت – دوره های آموزش گروهی (فهرست دوره ها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32378" t="7509" r="1711" b="31441"/>
          <a:stretch/>
        </p:blipFill>
        <p:spPr>
          <a:xfrm>
            <a:off x="457200" y="2565360"/>
            <a:ext cx="7129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r.Meshkati</cp:lastModifiedBy>
  <dcterms:modified xsi:type="dcterms:W3CDTF">2023-07-08T12:01:21Z</dcterms:modified>
  <cp:revision>614</cp:revision>
  <dc:subject/>
  <dc:title>Diapositiva 1</dc:title>
</cp:coreProperties>
</file>