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E526-D2AA-4D6D-8C46-C7DB8B3B8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01DD-32CC-4DA1-B7A9-E6E1A862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C4A9-05F8-4C71-9C83-A6A4B4B5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3A8C-EDC6-45CB-B2B2-3514200A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0FBE-102A-4385-A232-0EA98740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1725-CDB2-4184-BD6B-ED190ADF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F166-28CA-45C9-B307-E1CEAB19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1F75-80E9-4616-8AB2-61429B08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2B62-63FF-4EFC-95A0-A5307816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DB1B-7282-4C09-A765-103E86A2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C81D-F1C8-4564-9D8F-AC4CB237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E4DE-2A99-43E5-87EB-40D32FE2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69B86351-6FAA-427F-B965-A835D220136A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886880" cy="204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a-IR" sz="3300" spc="-1" strike="noStrike">
                <a:solidFill>
                  <a:srgbClr val="000000"/>
                </a:solidFill>
                <a:latin typeface="Calibri Light"/>
                <a:cs typeface="B Nazanin"/>
              </a:rPr>
              <a:t>راهنمای ثبت آموزش های گروهی برنامه های سلامت خانواده در سامانه سیب </a:t>
            </a:r>
            <a:br>
              <a:rPr sz="3300"/>
            </a:br>
            <a:br>
              <a:rPr sz="3300"/>
            </a:br>
            <a:r>
              <a:rPr b="0" lang="fa-IR" sz="3300" spc="-1" strike="noStrike">
                <a:solidFill>
                  <a:srgbClr val="000000"/>
                </a:solidFill>
                <a:latin typeface="Calibri Light"/>
                <a:cs typeface="B Nazanin"/>
              </a:rPr>
              <a:t>تیر ماه </a:t>
            </a:r>
            <a:r>
              <a:rPr b="0" lang="fa-IR" sz="3300" spc="-1" strike="noStrike">
                <a:solidFill>
                  <a:srgbClr val="000000"/>
                </a:solidFill>
                <a:latin typeface="Calibri Light"/>
                <a:ea typeface="B Nazanin"/>
              </a:rPr>
              <a:t>1402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نحوه ثبت شرکت کنندگان در دوره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2" name="Content Placeholder 3" descr=""/>
          <p:cNvPicPr/>
          <p:nvPr/>
        </p:nvPicPr>
        <p:blipFill>
          <a:blip r:embed="rId1"/>
          <a:srcRect l="4260" t="18133" r="2270" b="35728"/>
          <a:stretch/>
        </p:blipFill>
        <p:spPr>
          <a:xfrm>
            <a:off x="87480" y="1989000"/>
            <a:ext cx="89690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fa-IR" sz="3300" spc="-1" strike="noStrike">
              <a:solidFill>
                <a:srgbClr val="000000"/>
              </a:solidFill>
              <a:latin typeface="Calibri Light"/>
              <a:ea typeface="Times New Roman"/>
            </a:endParaRPr>
          </a:p>
        </p:txBody>
      </p:sp>
      <p:pic>
        <p:nvPicPr>
          <p:cNvPr id="74" name="Content Placeholder 3" descr=""/>
          <p:cNvPicPr/>
          <p:nvPr/>
        </p:nvPicPr>
        <p:blipFill>
          <a:blip r:embed="rId1"/>
          <a:srcRect l="3262" t="8588" r="1276" b="35728"/>
          <a:stretch/>
        </p:blipFill>
        <p:spPr>
          <a:xfrm>
            <a:off x="250920" y="1916280"/>
            <a:ext cx="89186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fa-IR" sz="3300" spc="-1" strike="noStrike">
              <a:solidFill>
                <a:srgbClr val="000000"/>
              </a:solidFill>
              <a:latin typeface="Calibri Light"/>
              <a:ea typeface="Times New Roman"/>
            </a:endParaRPr>
          </a:p>
        </p:txBody>
      </p:sp>
      <p:pic>
        <p:nvPicPr>
          <p:cNvPr id="76" name="Content Placeholder 3" descr=""/>
          <p:cNvPicPr/>
          <p:nvPr/>
        </p:nvPicPr>
        <p:blipFill>
          <a:blip r:embed="rId1"/>
          <a:srcRect l="3262" t="8588" r="1276" b="40503"/>
          <a:stretch/>
        </p:blipFill>
        <p:spPr>
          <a:xfrm>
            <a:off x="179280" y="115920"/>
            <a:ext cx="8713800" cy="3457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316080" y="3860640"/>
            <a:ext cx="86994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a-IR" sz="2400" spc="-1" strike="noStrike">
                <a:solidFill>
                  <a:srgbClr val="003296"/>
                </a:solidFill>
                <a:latin typeface="Calibri Light"/>
                <a:cs typeface="B Nazanin"/>
              </a:rPr>
              <a:t>امکان ثبت دوره های آموزش در سامانه سیب و امکان گزارش گیری در سامانه راستی آزمایی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-360" y="1052280"/>
            <a:ext cx="90010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با کاربر ارائه دهندگان خدمت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منوی ارائه خدمت – سفیران سلامت – دوره های آموزش گروهی (ثبت دوره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rcRect l="34465" t="7643" r="0" b="31878"/>
          <a:stretch/>
        </p:blipFill>
        <p:spPr>
          <a:xfrm>
            <a:off x="4756320" y="2201760"/>
            <a:ext cx="4244760" cy="244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rcRect l="33320" t="8185" r="0" b="30063"/>
          <a:stretch/>
        </p:blipFill>
        <p:spPr>
          <a:xfrm>
            <a:off x="63360" y="3933720"/>
            <a:ext cx="460224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3296"/>
                </a:solidFill>
                <a:latin typeface="Calibri Light"/>
                <a:cs typeface="B Nazanin"/>
              </a:rPr>
              <a:t>امکان ثبت دوره های آموزش گروهی در سامانه سیب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Content Placeholder 3" descr=""/>
          <p:cNvPicPr/>
          <p:nvPr/>
        </p:nvPicPr>
        <p:blipFill>
          <a:blip r:embed="rId1"/>
          <a:srcRect l="0" t="7282" r="2341" b="5405"/>
          <a:stretch/>
        </p:blipFill>
        <p:spPr>
          <a:xfrm>
            <a:off x="-25560" y="1020600"/>
            <a:ext cx="9277560" cy="5185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456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نحوه </a:t>
            </a:r>
            <a:r>
              <a:rPr b="0" lang="fa-IR" sz="2400" spc="-1" strike="noStrike">
                <a:solidFill>
                  <a:srgbClr val="003296"/>
                </a:solidFill>
                <a:latin typeface="Calibri Light"/>
                <a:cs typeface="B Nazanin"/>
              </a:rPr>
              <a:t>ثبت دوره ی جدید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181440" y="1031400"/>
            <a:ext cx="90010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تاریخ شروع دوره: قابلیت ثبت دوره برای تاریخ قبل، حال و آیند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2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عنوان دوره : انتخابی است – به عناون مثال : تایپ سالمند و انتخاب گزینه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ea typeface="B Nazanin"/>
              </a:rPr>
              <a:t>"سالمندی سالم (برنامه هر خانه یک پایگاه سلامت)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3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محل ارائه خدمت : انتخابی اس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49811" t="26809" r="3344" b="42258"/>
          <a:stretch/>
        </p:blipFill>
        <p:spPr>
          <a:xfrm>
            <a:off x="2484360" y="1903320"/>
            <a:ext cx="4535640" cy="18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rcRect l="25911" t="32251" r="18627" b="29379"/>
          <a:stretch/>
        </p:blipFill>
        <p:spPr>
          <a:xfrm>
            <a:off x="468360" y="4626000"/>
            <a:ext cx="499428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456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مهم ترین فیلد برای ثبت و گزارش گیری </a:t>
            </a:r>
            <a:br>
              <a:rPr sz="2400"/>
            </a:br>
            <a:r>
              <a:rPr b="1" lang="fa-IR" sz="2400" spc="-1" strike="noStrike">
                <a:solidFill>
                  <a:srgbClr val="ff0000"/>
                </a:solidFill>
                <a:latin typeface="Trebuchet MS"/>
                <a:cs typeface="B Nazanin"/>
              </a:rPr>
              <a:t>عنوان محل ارائه خدمت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181440" y="1031400"/>
            <a:ext cx="90010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4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عنوان محل ارائه خدمت : غیر انتخابی و باید کلمه کلیدی به عنوان مثال ورزش تایپ شو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1916280"/>
            <a:ext cx="9252000" cy="2936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3456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ثبت ظرفیت، گروه مخاطب و بسته کمک آموزشی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-181440" y="1031400"/>
            <a:ext cx="93250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5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ظرفیت 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غیر انتخابی و لزوم ثبت افراد فراخوان شده و سپس حضور یافت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6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گروه مخاطب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انتخابی است و از بین گزینه ها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ea typeface="B Nazanin"/>
              </a:rPr>
              <a:t>"سایر"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را انتخاب نمایی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والدین، کارمند، عموم مردم، سفیر سلامت خانواده، رابط سلامت،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سای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7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بسته کمک آموزشی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انتخابی است و بسته به مورد، انتخاب می شود.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پمفلت،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CD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، کتابچه، سایر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64601" t="25843" r="4176" b="25927"/>
          <a:stretch/>
        </p:blipFill>
        <p:spPr>
          <a:xfrm>
            <a:off x="-36360" y="1030320"/>
            <a:ext cx="3068640" cy="2743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rcRect l="50003" t="25986" r="4546" b="32806"/>
          <a:stretch/>
        </p:blipFill>
        <p:spPr>
          <a:xfrm>
            <a:off x="22320" y="4221000"/>
            <a:ext cx="431964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3456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ثبت ظرفیت، گروه مخاطب و بسته کمک آموزشی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181440" y="765000"/>
            <a:ext cx="932508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8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شیوه آموزش 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انتخابی است و از بین گزینه های، پرسش و پاسخ انتخاب شو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9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کد ملی مسئول دوره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کد ملی پزشک مسئول مرکز یا یکی از ارائه دهنده خدمت ثبت شو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تایپ شو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0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شماره ملی مدرس: 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الزامی اس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1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–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ساعت شروع و پایان دوره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: الزامی و هم قابل تایپ و هم انتخاب اس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rcRect l="31858" t="26507" r="3612" b="28644"/>
          <a:stretch/>
        </p:blipFill>
        <p:spPr>
          <a:xfrm>
            <a:off x="971640" y="1292400"/>
            <a:ext cx="4475160" cy="194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3456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مهم ترین فیلد برای ثبت و گزارش گیری </a:t>
            </a:r>
            <a:br>
              <a:rPr sz="2400"/>
            </a:br>
            <a:r>
              <a:rPr b="1" lang="fa-IR" sz="2400" spc="-1" strike="noStrike">
                <a:solidFill>
                  <a:srgbClr val="ff0000"/>
                </a:solidFill>
                <a:latin typeface="Trebuchet MS"/>
                <a:cs typeface="B Nazanin"/>
              </a:rPr>
              <a:t>عنوان محل ارائه خدمت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181440" y="1031400"/>
            <a:ext cx="90010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rcRect l="4113" t="17780" r="1761" b="11376"/>
          <a:stretch/>
        </p:blipFill>
        <p:spPr>
          <a:xfrm>
            <a:off x="57240" y="898560"/>
            <a:ext cx="9063000" cy="5410080"/>
          </a:xfrm>
          <a:prstGeom prst="rect">
            <a:avLst/>
          </a:prstGeom>
          <a:ln w="0">
            <a:noFill/>
          </a:ln>
        </p:spPr>
      </p:pic>
      <p:sp>
        <p:nvSpPr>
          <p:cNvPr id="65" name="Rounded Rectangle 1"/>
          <p:cNvSpPr/>
          <p:nvPr/>
        </p:nvSpPr>
        <p:spPr>
          <a:xfrm>
            <a:off x="1403280" y="2492280"/>
            <a:ext cx="647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0000"/>
                </a:solidFill>
                <a:latin typeface="Calibri"/>
                <a:cs typeface="B Nazanin"/>
              </a:rPr>
              <a:t>ورز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5003640" y="5373720"/>
            <a:ext cx="79236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0000"/>
                </a:solidFill>
                <a:latin typeface="Calibri"/>
                <a:cs typeface="B Nazanin"/>
              </a:rPr>
              <a:t>ورز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5003640" y="5891040"/>
            <a:ext cx="79236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0000"/>
                </a:solidFill>
                <a:latin typeface="Calibri"/>
                <a:cs typeface="B Nazanin"/>
              </a:rPr>
              <a:t>ورز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نحوه ثبت شرکت کنندگان در دوره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1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با کاربر ارائه دهندگان خدمت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منوی ارائه خدمت – سفیران سلامت – دوره های آموزش گروهی (فهرست دوره ها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32378" t="7509" r="1711" b="31441"/>
          <a:stretch/>
        </p:blipFill>
        <p:spPr>
          <a:xfrm>
            <a:off x="457200" y="2565360"/>
            <a:ext cx="712944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Dr.Meshkati</cp:lastModifiedBy>
  <dcterms:modified xsi:type="dcterms:W3CDTF">2023-07-08T12:01:21Z</dcterms:modified>
  <cp:revision>614</cp:revision>
  <dc:subject/>
  <dc:title>Diapositiva 1</dc:title>
</cp:coreProperties>
</file>