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2C7-80B0-4CE6-8E71-6CB14CFC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DF5-8F26-4612-B543-154E103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A48-5674-4C0C-B30B-8DCA9B7D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DF5-D623-4249-BD51-624A71A0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A75-F504-4922-B39F-436951DD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BDC-C329-4B9E-964F-C302827D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739-E7E5-48AC-8EB9-1FEC347A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46D-478B-4A97-B6FD-F661971F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799-0A4D-419F-A606-22CAB05B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095-60CF-4146-A4FF-3A92C45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6D7-BAC6-40B4-8AD3-1EF78AD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3FA-71FC-4524-AC8A-7A7D656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6860B24-EEC7-4D45-9FA0-F236E7C39822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868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راهنمای ثبت آموزش های گروهی برنامه های سلامت خانواده در سامانه سیب </a:t>
            </a:r>
            <a:br>
              <a:rPr sz="3300"/>
            </a:br>
            <a:br>
              <a:rPr sz="3300"/>
            </a:b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تیر ماه </a:t>
            </a:r>
            <a:r>
              <a:rPr b="0" lang="fa-IR" sz="3300" spc="-1" strike="noStrike">
                <a:solidFill>
                  <a:srgbClr val="000000"/>
                </a:solidFill>
                <a:latin typeface="Calibri Light"/>
                <a:ea typeface="B Nazanin"/>
              </a:rPr>
              <a:t>140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4260" t="18133" r="2270" b="35728"/>
          <a:stretch/>
        </p:blipFill>
        <p:spPr>
          <a:xfrm>
            <a:off x="87480" y="1989000"/>
            <a:ext cx="896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3262" t="8588" r="1276" b="35728"/>
          <a:stretch/>
        </p:blipFill>
        <p:spPr>
          <a:xfrm>
            <a:off x="250920" y="1916280"/>
            <a:ext cx="891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3262" t="8588" r="1276" b="40503"/>
          <a:stretch/>
        </p:blipFill>
        <p:spPr>
          <a:xfrm>
            <a:off x="179280" y="115920"/>
            <a:ext cx="8713800" cy="345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316080" y="3860640"/>
            <a:ext cx="86994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در سامانه سیب و امکان گزارش گیری در سامانه راستی آزمای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360" y="1052280"/>
            <a:ext cx="9001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ثبت دوره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rcRect l="34465" t="7643" r="0" b="31878"/>
          <a:stretch/>
        </p:blipFill>
        <p:spPr>
          <a:xfrm>
            <a:off x="4756320" y="2201760"/>
            <a:ext cx="42447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3320" t="8185" r="0" b="30063"/>
          <a:stretch/>
        </p:blipFill>
        <p:spPr>
          <a:xfrm>
            <a:off x="63360" y="3933720"/>
            <a:ext cx="4602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گروهی در سامانه سیب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rcRect l="0" t="7282" r="2341" b="5405"/>
          <a:stretch/>
        </p:blipFill>
        <p:spPr>
          <a:xfrm>
            <a:off x="-25560" y="1020600"/>
            <a:ext cx="927756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</a:t>
            </a: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ثبت دوره ی جدید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تاریخ شروع دوره: قابلیت ثبت دوره برای تاریخ قبل، حال و آین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دوره : انتخابی است – به عناون مثال : تایپ سالمند و انتخاب گزینه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لمندی سالم (برنامه هر خانه یک پایگاه سلامت)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محل ارائه خدمت : انتخاب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49811" t="26809" r="3344" b="42258"/>
          <a:stretch/>
        </p:blipFill>
        <p:spPr>
          <a:xfrm>
            <a:off x="2484360" y="1903320"/>
            <a:ext cx="45356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25911" t="32251" r="18627" b="29379"/>
          <a:stretch/>
        </p:blipFill>
        <p:spPr>
          <a:xfrm>
            <a:off x="468360" y="4626000"/>
            <a:ext cx="4994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محل ارائه خدمت : غیر انتخابی و باید کلمه کلیدی به عنوان مثال ورزش تایپ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25200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181440" y="1031400"/>
            <a:ext cx="9325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ظرفیت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غیر انتخابی و لزوم ثبت افراد فراخوان شده و سپس حضور یاف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گروه مخاطب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یر"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را انتخاب نمایی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والدین، کارمند، عموم مردم، سفیر سلامت خانواده، رابط سلامت،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ی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بسته کمک آموزشی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بسته به مورد، انتخاب می شود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پمفلت،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CD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، کتابچه، سایر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64601" t="25843" r="4176" b="25927"/>
          <a:stretch/>
        </p:blipFill>
        <p:spPr>
          <a:xfrm>
            <a:off x="-36360" y="1030320"/>
            <a:ext cx="306864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50003" t="25986" r="4546" b="32806"/>
          <a:stretch/>
        </p:blipFill>
        <p:spPr>
          <a:xfrm>
            <a:off x="22320" y="4221000"/>
            <a:ext cx="4319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181440" y="765000"/>
            <a:ext cx="932508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یوه آموزش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ی، پرسش و پاسخ انتخاب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9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کد ملی مسئول دوره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کد ملی پزشک مسئول مرکز یا یکی از ارائه دهنده خدمت ثبت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تایپ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0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ماره ملی مدرس: 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لزام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–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عت شروع و پایان د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: الزامی و هم قابل تایپ و هم انتخاب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rcRect l="31858" t="26507" r="3612" b="28644"/>
          <a:stretch/>
        </p:blipFill>
        <p:spPr>
          <a:xfrm>
            <a:off x="971640" y="1292400"/>
            <a:ext cx="447516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4113" t="17780" r="1761" b="11376"/>
          <a:stretch/>
        </p:blipFill>
        <p:spPr>
          <a:xfrm>
            <a:off x="57240" y="898560"/>
            <a:ext cx="906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Rounded Rectangle 1"/>
          <p:cNvSpPr/>
          <p:nvPr/>
        </p:nvSpPr>
        <p:spPr>
          <a:xfrm>
            <a:off x="1403280" y="2492280"/>
            <a:ext cx="647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5003640" y="5373720"/>
            <a:ext cx="792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5003640" y="589104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فهرست دوره ها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32378" t="7509" r="1711" b="31441"/>
          <a:stretch/>
        </p:blipFill>
        <p:spPr>
          <a:xfrm>
            <a:off x="457200" y="2565360"/>
            <a:ext cx="7129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afisa Ahani. NAhani</cp:lastModifiedBy>
  <dcterms:modified xsi:type="dcterms:W3CDTF">2023-07-10T03:49:14Z</dcterms:modified>
  <cp:revision>614</cp:revision>
  <dc:subject/>
  <dc:title>Diapositiva 1</dc:title>
</cp:coreProperties>
</file>