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A28A-FE5D-4428-B4F8-191ECD05D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1AE8A-AFDB-4285-9006-7CCEA694B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BC615-7533-4316-A85D-8BB14A50C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9DF75-B049-40F8-B93A-E1FF73F18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4F5CB-6945-4417-BBB6-91E038EDE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8E9D4-26C2-4021-8F08-A27ADD314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6981D-1C06-45FC-B268-1F17C74DB7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DD80-5088-4AFA-A9DB-355A1B925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ED2FE-4861-4881-9E76-228E3C29F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9876D-37A5-4B86-8BD4-F0808D3551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9386-0265-4FF4-9F37-88FA1F05E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D6BE2-E042-43C3-A35F-8AD9CC5173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4E6B0-A80D-4CB2-AB76-D42821D3A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E3F86-3BDC-40D4-964E-D2E86549D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2257C-E2C0-4FEC-9EC1-099C9DA5A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17F86-EE16-41F2-9857-29D902DC7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62B0C-30EC-4394-B456-AD929A1CC2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3AB0B-577D-4800-B040-36421969A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37307-C827-41DB-AEC3-E3A4664E26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AF518-493E-4269-90C7-58CC19CD8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DA91-0EEF-4CE0-85FA-D5BCE3A14A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40B75-C367-44FB-91D3-6E50BEC37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4AA31-D6CC-4494-8109-0D37D31E4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4454-D547-4154-B3C2-C70A002EA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2023-2CAA-4060-8EC9-2FD029C1B7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3C420-F2F9-46F5-89C0-925CF082C2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FE0A-7CC8-4BD7-B64A-2F3948468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25563-F744-4C83-BE23-C143B97A2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40368-7FB9-4F3A-A6CB-77C0D6E5C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7782-63C9-4B8E-9E84-56C663576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084FB-32C1-4CA6-958E-AFED5B591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F2439-74AC-48BF-A9FC-B7E6F656AF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5D6CC-403E-44CC-A6B5-5E0D041A73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E7EC-0C83-4811-B477-9908BADCC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B8187-F890-463B-86D3-CDA65E019D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02B3-2293-4EE4-87B4-D58DDA8804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0D8AB-F983-4F1A-A59E-368B152CC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B243-105C-4250-BC38-2D6A537E0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A4230-CF63-49D7-A7BD-A4EEB4275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6B131-6A2B-4FA2-8632-87CB7579A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4C5EF-AA15-4B66-8DF2-0C488251E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9B775-F5AE-4728-9692-53290B4DF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EAEA-C582-4D92-9D33-5DA29F5E3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79E0C-CBE7-49ED-B652-7DC8DDF7F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AE22-9CC1-40A3-825F-286B5906A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6621-0DBB-4703-A84D-CA69A9B606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C3FB-2BE6-42E0-B8E5-EADB48935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E234C-20C9-4A70-A6C0-73610BB93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20C2C-FD0A-4A79-9012-2A2ADBF2B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517FE-0D51-4BBB-B8E1-D979EEDB5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CBD2-89F0-4262-814D-99DDA35FE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D428A-9D24-4E53-891E-C523F24FF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1A0B0-35CE-42D7-9938-0E8DBEDAE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A7469-DC5B-4E97-A1D7-60C0D951D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CCC8-29A1-4688-ABC1-DAD40B69F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60FA5-19E7-4997-9026-17F24C4E9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497D8-69A5-4393-884A-BB82F4DFEF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9C50-D2A0-4BEE-9DF8-103B19E01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B91E3-20B2-47B2-AAFD-1DF741735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760E3-E6F1-4BCE-9A1D-3B1AD362E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E513-5BDB-4130-8334-AC3856247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6129A-B97C-459D-B611-538FF44AA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1FAF-97EA-45CF-AC25-461EAAF43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0C19-8F63-4894-A5F5-E3195A9DD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76E0-2D17-48AD-831E-19C275B29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F3A2-345F-40E7-B190-DC4454606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0A4E-89F8-4795-AD57-90CDD11389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355E-A321-40AF-86EF-C28FD8E2DE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062F-5F42-47CD-963B-074D9505C6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8177-7690-4381-983E-FE45B3502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7EA7-410D-4A62-B22E-693B5B168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C57B-78E6-4362-BDF5-152B3D5C3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C9860-EC22-4EF5-82F3-B1523D881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70E4-7BF6-44E0-A0EC-136F63ED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32DB-877D-4175-8375-4B582EB1E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158A-3D1E-4568-BC01-1D06CD86DD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B6B8-4E5C-48C4-8BDD-9942171635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C282-56F8-4AE5-A6BF-6061E3840D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07F5-9651-4E1A-BE98-91EBF2B85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711B-2CDC-4A29-B7DC-A4BE6DFCF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0F3-A450-4B4E-850B-FD5ABB0C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1548-A1AD-40D5-A1E1-71584B0F1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461D-1D93-4288-A578-F1A25573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4B65-C6F6-4A49-991B-D74F04FB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342F-AEBA-4A3A-8976-62295C31C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3B16-6F85-49D0-B2AA-C20F41E40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4000" cy="6846840"/>
            <a:chOff x="1440" y="0"/>
            <a:chExt cx="9144000" cy="684684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6520" cy="267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678040"/>
                <a:gd name="textAreaBottom" fmla="*/ 2678400 h 267804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5080" cy="8240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28520" cy="156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88480" cy="6846840"/>
              <a:chOff x="457200" y="0"/>
              <a:chExt cx="8088480" cy="684684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09440" cy="68468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1440" cy="68468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0280" cy="684684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3200" cy="684684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0920" cy="6846840"/>
              </a:xfrm>
              <a:custGeom>
                <a:avLst/>
                <a:gdLst>
                  <a:gd name="textAreaLeft" fmla="*/ 0 w 880920"/>
                  <a:gd name="textAreaRight" fmla="*/ 881280 w 88092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0440" cy="6846840"/>
              </a:xfrm>
              <a:custGeom>
                <a:avLst/>
                <a:gdLst>
                  <a:gd name="textAreaLeft" fmla="*/ 0 w 1090440"/>
                  <a:gd name="textAreaRight" fmla="*/ 1090440 w 10904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6920" cy="6846840"/>
              </a:xfrm>
              <a:custGeom>
                <a:avLst/>
                <a:gdLst>
                  <a:gd name="textAreaLeft" fmla="*/ 0 w 1366920"/>
                  <a:gd name="textAreaRight" fmla="*/ 1366920 w 136692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3280" cy="6846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1600" cy="684684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69960" cy="6846840"/>
              </a:xfrm>
              <a:custGeom>
                <a:avLst/>
                <a:gdLst>
                  <a:gd name="textAreaLeft" fmla="*/ 0 w 669960"/>
                  <a:gd name="textAreaRight" fmla="*/ 670320 w 66996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08280" cy="684684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4960" cy="6846840"/>
              </a:xfrm>
              <a:custGeom>
                <a:avLst/>
                <a:gdLst>
                  <a:gd name="textAreaLeft" fmla="*/ 0 w 1164960"/>
                  <a:gd name="textAreaRight" fmla="*/ 1165320 w 116496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28760" cy="684684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57600" cy="2241360"/>
            </a:xfrm>
            <a:custGeom>
              <a:avLst/>
              <a:gdLst>
                <a:gd name="textAreaLeft" fmla="*/ 0 w 957600"/>
                <a:gd name="textAreaRight" fmla="*/ 957960 w 957600"/>
                <a:gd name="textAreaTop" fmla="*/ 0 h 2241360"/>
                <a:gd name="textAreaBottom" fmla="*/ 2241360 h 2241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57480" cy="6714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57360" cy="283068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2830680"/>
                <a:gd name="textAreaBottom" fmla="*/ 2830680 h 283068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36880" cy="133668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2960" cy="6523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57560" cy="2232000"/>
            </a:xfrm>
            <a:custGeom>
              <a:avLst/>
              <a:gdLst>
                <a:gd name="textAreaLeft" fmla="*/ 0 w 1357560"/>
                <a:gd name="textAreaRight" fmla="*/ 1357920 w 135756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28800" cy="94608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4080" cy="39528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60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60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6080" cy="2489040"/>
              <a:chOff x="1440" y="622440"/>
              <a:chExt cx="9136080" cy="248904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272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148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8796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444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06F46-717E-4DE3-B18B-3780ACC0D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36520" cy="267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678040"/>
                <a:gd name="textAreaBottom" fmla="*/ 2678400 h 267804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5440" cy="82404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28520" cy="156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88120" cy="6846840"/>
              <a:chOff x="455760" y="0"/>
              <a:chExt cx="8088120" cy="684684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09800" cy="68468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1440" cy="68468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0280" cy="684684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2840" cy="6846840"/>
              </a:xfrm>
              <a:custGeom>
                <a:avLst/>
                <a:gdLst>
                  <a:gd name="textAreaLeft" fmla="*/ 0 w 672840"/>
                  <a:gd name="textAreaRight" fmla="*/ 673200 w 6728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1280" cy="6846840"/>
              </a:xfrm>
              <a:custGeom>
                <a:avLst/>
                <a:gdLst>
                  <a:gd name="textAreaLeft" fmla="*/ 0 w 881280"/>
                  <a:gd name="textAreaRight" fmla="*/ 881640 w 881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0800" cy="6846840"/>
              </a:xfrm>
              <a:custGeom>
                <a:avLst/>
                <a:gdLst>
                  <a:gd name="textAreaLeft" fmla="*/ 0 w 1090800"/>
                  <a:gd name="textAreaRight" fmla="*/ 1091160 w 109080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66920" cy="6846840"/>
              </a:xfrm>
              <a:custGeom>
                <a:avLst/>
                <a:gdLst>
                  <a:gd name="textAreaLeft" fmla="*/ 0 w 1366920"/>
                  <a:gd name="textAreaRight" fmla="*/ 1366920 w 136692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3280" cy="6846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1240" cy="684684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69960" cy="6846840"/>
              </a:xfrm>
              <a:custGeom>
                <a:avLst/>
                <a:gdLst>
                  <a:gd name="textAreaLeft" fmla="*/ 0 w 669960"/>
                  <a:gd name="textAreaRight" fmla="*/ 670320 w 66996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07920" cy="684684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5320" cy="6846840"/>
              </a:xfrm>
              <a:custGeom>
                <a:avLst/>
                <a:gdLst>
                  <a:gd name="textAreaLeft" fmla="*/ 0 w 1165320"/>
                  <a:gd name="textAreaRight" fmla="*/ 1165680 w 116532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28760" cy="684684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6846840"/>
                  <a:gd name="textAreaBottom" fmla="*/ 6847200 h 684684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488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57240" cy="2241360"/>
            </a:xfrm>
            <a:custGeom>
              <a:avLst/>
              <a:gdLst>
                <a:gd name="textAreaLeft" fmla="*/ 0 w 957240"/>
                <a:gd name="textAreaRight" fmla="*/ 957600 w 957240"/>
                <a:gd name="textAreaTop" fmla="*/ 0 h 2241360"/>
                <a:gd name="textAreaBottom" fmla="*/ 2241360 h 2241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57120" cy="671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448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57360" cy="283068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2830680"/>
                <a:gd name="textAreaBottom" fmla="*/ 2830680 h 283068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36520" cy="13366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2960" cy="6523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57200" cy="223200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0c0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28800" cy="94608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3720" cy="39528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60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60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6080" cy="2489040"/>
              <a:chOff x="0" y="622440"/>
              <a:chExt cx="9136080" cy="248904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272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148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8796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444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60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60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33662-60AD-403E-B383-96FD554E9D9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anhosp.org/library/healthguide/en-us/support/topic.asp?hwid=stp16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lood" TargetMode="External"/><Relationship Id="rId2" Type="http://schemas.openxmlformats.org/officeDocument/2006/relationships/hyperlink" Target="http://en.wikipedia.org/wiki/Coagulation" TargetMode="External"/><Relationship Id="rId3" Type="http://schemas.openxmlformats.org/officeDocument/2006/relationships/hyperlink" Target="http://en.wikipedia.org/wiki/Platelet" TargetMode="External"/><Relationship Id="rId4" Type="http://schemas.openxmlformats.org/officeDocument/2006/relationships/hyperlink" Target="http://en.wikipedia.org/wiki/Haemorrhage" TargetMode="External"/><Relationship Id="rId5" Type="http://schemas.openxmlformats.org/officeDocument/2006/relationships/hyperlink" Target="http://en.wikipedia.org/wiki/Eclampsia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igh Risk Pregnancy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cture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ruption co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us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known; risk factors:  smoking, short umbilical cord, adv. mat. age, HTN, PIH, cocaine use, trauma to or near abdom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ifesta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enderness to severe constant pain; mild to moderate bleeding depending on degree of sep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tal separation: tearing, knifelike sens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ssess amt. &amp; control blood lo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ess FH &amp; mat. VS, CBC, O2, IVF [RL-volume expander], type &amp; cros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onate may be hypoxic, in hypovolemic shock d/t bl. loss. Prepare for emergency C/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0800000">
            <a:off x="457200" y="-2084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04920"/>
            <a:ext cx="845820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mparison: Abruption vs. Placenta Previ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ruptio Placent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thology: Sudden separation of normally implanted placen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ginal Bleeding: may not be obvious; concealed behind placenta. If visible, will be dark. Bleeding into uterine cav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n:  Sharp, stabbing pain in ab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erus: hard boardlike ab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nta Previ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thology: Abnormal implantation of placenta; lower in uterine cav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ginal Bleeding: Abrupt onset ; bright 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etely painl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erus: Soft, unless uterine contraction is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3352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normal Amniotic Fluid Level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F made up of fetal urine &amp; fluid that is  transported thru placenta from mat.cir.sy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tus swallows AMF &amp; excretes ur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te excreted by maternal kidney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NS or GI abnormalities inhibits uptake of AM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Polyhydramnio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&gt; 2,000 ml amniotic flui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ultrasound to make dx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I &gt;/equal to 24= polyhydramnio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I of 8-23 cm. norma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sual inspection may reveal rapidly enlarging uteru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176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Microsoft YaHei"/>
              </a:rPr>
              <a:t>Risk Fac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Fetal abnormalities: neonatal macrosomia, fetal or neonatal hydrops [swelling], ascites, pleural or pericardial effusion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Skeletal malformations: congenital hip dislocation, clubfoot, &amp; limb reduction defec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Abnormal fetal movement suggestive of neurologic abnormalities (CN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Obstruction of GI tract; prevents normal ingestion of amniotic flui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Rh iso immunization d/t mixing of maternal/fetal bl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Maternal hx D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Assoc. w.spina bifida; anencephaly, hydrocephal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Fetal death may result from severe pol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887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icrosoft YaHei"/>
              </a:rPr>
              <a:t>Not as common as oligohydramn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lyhydramnios co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itor wt. gain. Remove excess  amniotic fluid q 1-2 wks.thru amniocentesis. Replaced quickly. Most women with mild poly.deliver healthy inf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ligohydramnio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mniotic fluid &lt; 1,000m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be highly concentrat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feres w. normal fetal dev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s cushioning effect around fetu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us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Failure of fetal kidney development; urine excretion blocked, IUGR, post-term preg., preterm ROM, fetal anomalies. Poor placental func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ligo co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ifesta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cial &amp; skeletal deformities: club foo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tal dem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lmonary hypoplasia - improper dev. of alveoli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rimester oligo: higher rate of congenital anomalies (50.7 % vs. 22.1 %) and lower survival rate (10.2 % vs. 85.3 %) than women with oligo. in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rimester 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gnosis: depends on severity of disea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eful assessment of mother/fe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frequent ante-partum tes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optimal time for delivery (earl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ibiotics/corticosteroids with PPR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-842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57200"/>
            <a:ext cx="82296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topic pregn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use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arring of fallopian tub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hlamydia/Gonorrhea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lantation of ovum outside uterine cavity;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su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pper 1/3rd fallopian tub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; rare on ovary, cervix, abdominal cavit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ing cause of death from hemorrhage in pre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s fertil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1 in 100 pregnancie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common &gt; infection of fallopian tubes or surgery to reverse  T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ious ectop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ple induced abor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ethylstilbestrol (DES) expos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86104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topi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mptom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icky, cramping pain in lower abdomen on affected si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bal rupture: sharp/steady pain before diffusing thruout pelvic region. Fetus expels into pelvic cavit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avy bleeding causes shoulder pain, rectal pressu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/V- 25-50% pts. think its morning sickness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zziness/weakness - If tube ruptures, weak pulse, clammy skin, fainting. Assess for s/s sho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eatment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mediate surgery to remove/repair tub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no rupture, Methotrexate - stops cellular division in fetus; causes cell death. Conceptus expelled with bleeding. Best &lt;6 wks. when chance of rupture l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rot="10800000">
            <a:off x="457200" y="-10656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h sensitiza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h (D) Immune Globulin aka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“Rhog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h – mom: no Rh facto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Rh - mom receives cells from Rh + fetus,  mother responds to (+) A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by producing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reat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nti-Rho (d) immune globulin @ 26-28 wks. (Rhogam) &amp; @ delive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s antibody formation if mom is Rh -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id RBC lysis leads to ^ bilirubin leve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exposure [Rh+ blood] IgM, antibodies develop; too large to cross p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lacent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Rh + fetus usually not harm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xposure, smaller IgG antibodies formed; can cross  placenta &amp; destroy fetal red blood cel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ternal-Fetal Blood Group Incompatibility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m is type O &amp; baby is A, B or A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ood types A, B, &amp; AB contain antigen not present in type O bloo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O) blood type have anti A/anti B antibod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exchange occurs, maternal antibodies attact fetal bl.cells, causing rapid lysis of RBC'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s to byproduct bilirubi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s in “jaundice”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O less severe than Rh incompatibility b/c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tibodies of ABO system are IgM which are too large to cross placen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lirubin levels done &amp; phototherapy if ^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-3128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0"/>
            <a:ext cx="8458200" cy="64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aternal Mortal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0/100,000 pregnant wom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eading caus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hemorrhage, hypertension,  infection, preeclamps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gh Risk Pregnanc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lphaUcPeriod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ernal Age  &lt; 15 &amp; &gt; 3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 Parity Factors - 5 or more - great ris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PP hemorrhage] New preg.within 3 m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Medical-Surgical Hx - hx of previous uterine surgery &amp;/or uterine rupture, DM, cardiac dis, lupus, HTN, PIH, HELLP, DIC etc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88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Hypertensive States of Pregn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oba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 of maternal/fetal morbidity &amp; mortality. Responsible for ~ 76,000 deaths/year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4 categori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“Chronic HTN”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^ BP prior to pregnanc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associated w. proteinuria or end-organ damage; continues &gt; delive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Preeclampsia”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^ BP during preg. &gt; 20 wks. End-organ damage may occur. 50-70% ca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erimposed preeclampsia on pt. w.  Chronic HTN”: 15-30% ca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“Transient HTN”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P &gt;140 /90 without proteinuria or end-organ damage. Normotensive pt. may become hypertensive late in preg., during labor, or 24 hours postpartum. BP normal within 10 days postpartu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-eclampsi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ned 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P ≥ 140/9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olic ↑ of 30mm Hg &gt; pre-preg. lev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astolic ↑ of 15mm Hg &gt; pre preg. leve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ts with HTN, proteinuria, edema of face, hands, ankl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occur anytime &gt;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k of pregna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ually occurs closer to due date. Will not resolve until &gt; birth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an progress to HELLP syndr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80880"/>
            <a:ext cx="838224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General Signs of PREECLAMPSI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id weight gain; swelling of arms/f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dache; vision changes (blurred vision, seeing double, seeing spot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zziness/faintness/ringing in ears/confusion;  seiz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dominal pain, ↓ production of urine; nausea, vomiting, blood in vomit or uri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176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990720"/>
            <a:ext cx="82296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i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ild HTN; no end-organ damage; minimal proteinuri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eve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gnificant HTN; severe proteinuria (&gt;5.0 g/d); end-organ damage d/t systemic vaso- constri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dache; visual changes; confusion; abdominal pain; impaired liver function w.hyperbilirubinemia; oliguria;  proteinuria; pulmonary edema; hemolytic anemia;  thrombocytopenia; fetal growth retardation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lampsia (seizures) may fol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85800"/>
            <a:ext cx="82296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clamps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entury Gothic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izures or coma d/t hypertensive encephalopathy; most serious complic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ffects ~ 0.2% preg; 1 in 1000 preg. termina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entury Gothic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jor cause of maternal death d/t intracranial hemorrhage. Maternal mortality rate is 8-36%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entury Gothic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liver by C/S ASA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isk factor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 age 20 or &gt; 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wins, triplets; primagravi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ar pregna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existing: HTN, Diabetes mellit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nal or vascular disea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or hx of preeclampsia/eclampsi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requency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% {all pregnancies in US}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us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Unknow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ories: maternal immune reaction that leads to systemic peripheral vascular spasm &gt;&g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s to endothelial cell damage &gt;&gt; vasoconstriction&gt; ^BP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fects multiple organs. Reduced bl.supply to kidneys, liver, placenta, brain. Can lead to    placental abruption and fetal &amp; maternal de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8088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only cure is delivery-  Depends on sympto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ld preeclampsi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Bedrest. Monitor @ home or hospital. Deliver close to EDC. Frequent BP’s, 24 hr.urine, liver enzymes, FHR, &amp; ultrasoun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re preeclampsia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al: prevent convulsions &amp; control mat. BP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P = 160/110 , epigastric pain, 2-4+ proteinuria, ^ liver enzymes, thrombocytopenia [↓ 100,000]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gnesium sulfate [drug of choice]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gnesium Sulf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143000"/>
            <a:ext cx="82296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ronchodilating effects; prevent seizures; lowers BP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eroids to mom for fetal lung maturity if premature delivery imminen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fusion pump – IVPB into mainline of RL before/during labor &amp; 24 hrs &gt; delive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fuse slow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line VS &amp; UO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efor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apy. RR @ least 16/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g SO4 remov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solely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by kidney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on’t use in pts. w.renal disease. Other drugs: Dilantin &amp; Valiu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tellar reflex, place foley, RR, fetal status q h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0800000">
            <a:off x="457200" y="-2084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914400"/>
            <a:ext cx="822960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nitor mag.levels q 2hrs.  Mag level 4-6 meq./liter therapeutic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agnesium Toxic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ased on clinical signs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rp drop in B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piratory paraly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appearance of patellar reflex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P infusion, give O2 &amp; calcium gluconate ASAP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04920"/>
            <a:ext cx="86104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HELLP Syndrom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olysi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vat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ver Enzyme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telets”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an progress to DIC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rget organ is live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sospasm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use vasoconstriction &amp; lead to reduction in blood flow to uterus/other orga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s to ↑ BP, visual disturbances, low UO, ↓ HC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emia; Epigastric/RUQ pain &amp; tenderness d/t liver swelling. Weakness, fatigue, jaundi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molysis &gt; destruction blood cells; + anem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^ liver enzymes &gt; sign of liver damage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w platelets - ^ peripheral vascular destruc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BC, platelet count, PT, PTT, LFT’s, uric aci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-477720"/>
            <a:ext cx="82296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estational Condit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14300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yperemesis Gravida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istent vomiting past first trimester or excessive vomiting @ anyti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e; usually 1st pregna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te occurrence ^ with twins, triplet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7 out of 1,000. Electrolyte imbalance result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sible causes: ^ levels of hCG, ^ serum  amylase, decrease gastric moti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-2365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57200"/>
            <a:ext cx="82296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DIC: DISSEMINATED INTRAVASCUL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AGULA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[acute disorder]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l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egins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agul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roughout entire  body. Widespread fibrin deposits in capillaries/arterioles. Body depleted of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latele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&amp; coagulation factors; ^ risk of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hemorrha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Over activation of clotting cascad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lts in decreased blood flow &amp; ^ tissue da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ways a secondary dx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aus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^ tissue thromboplastin d/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scular damag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rigger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mniotic fluid embolism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eclamps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ruption, pre-eclampsia, HELLP, traum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m – sep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80880"/>
            <a:ext cx="8229600" cy="72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C cont.  Physical Assess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echiae/ecchymotic areas on skin/mucous me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morrhaging [occult or obvious] Nose, gums, I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te, IM inj.site, etc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/S shock; oligouria; ^HR; diaphoresis, seiz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Diagnostic tes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CBC, prolonged prothrombi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LAB Finding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low plts, fibrinogen, other clotting factor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ention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eat underlying condi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ection, pre-eclampsia, abruption, bleeding,  shoc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VF (RL); O2 @ 6-10 L / m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ey to monitor UO [30-50 ml/h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nitor VS; Clotting factors replaced with PRBC’s, platelets &amp; fresh frozen plasm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parin may be given to block coagulation casca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ications: organ injury; maternal mortal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3352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competent Cervix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sive dilation of cervix without contx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ually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arl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egna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x miscarria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s: congenitally short cervix; composition of cervical tissue; DES expos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x: ultra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anagement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trict BR; trendelenberg position if 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lging membranes; hydration IVF, tocoly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erclag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placed by 10-14 wks. – binds cervical 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intercourse; Remove @ 37 wks.80-90% su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bet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066680"/>
            <a:ext cx="82296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^ 41% from 1990 - 1999 in US; 4.9 to  6.9 respectively. Includes gest. D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ibuting factor: ^ obe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nce 1991, obesity ^ 57% in 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inatal mortality/morbidity 6x higher w. undx. pre-existing D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common complication of pregna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xican, Puerto Rican, American Indian, Asian Indian, Hawaiian: higher rates than other Hispanic, white, &amp; black.      [CDC, 1998]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ational Diabetes  AKA “GDM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ucose intolerance beginning in pregnanc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M occurs &gt; 2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k. with no ^ incidence of anomali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 2% pts. have undx type II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nter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Type 1 &amp; 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ave ^ anomalies d/t organogenesis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rimester)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 4% of preg.affected. May/may not require insuli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nal Risks: HTN disorders, PTL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yhydramnios, macrosomia (^ C/S rate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ant Risks: Birth trauma, shoulder dystocia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ypoglycemia, hyperbilirubinemia, RDS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ombocytopenia, hypocalcemia, fetal deat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thophysiology: GD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gnancy hormones estrogen, HPL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lactin, cortisol, progesterone, block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ulin receptor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&gt; 20 wks. pregnancy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lts in ^ circulating glucose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insulin released to attempt to maintain glucose homeostasis. Pt. feels “hungry” d/t ^ insulin; vicious cycle of ^ appetite &amp; wt.gain result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creening &amp; Diagnosis of GD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143000"/>
            <a:ext cx="82296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een ALL women @ 24-28 wk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ER Risk pts. screened i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rimester/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enatal visi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&amp;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@ 24-28 wk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Determining High Risk Client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mily hx DM; Previous hx GD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d obesity; Glycosu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ernal Age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x infant &gt; 4000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ber of high-risk racial/ethnic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spanic, Native American, South or East Asian, African American, Pacific Island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f results negative, repeat @ 24-28 wk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creening &amp; Diagnosis co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14300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st D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hour glucose challenge test (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 - 50g oral glucola. No fasting need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ommended GCT value &lt;140mg/dL (detects 80%) [130 value detects 90% women w.GDM]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A &amp; ACOG(2003) approv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low GCT &gt;/=140mg/dL with diagnosti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hr.GTT [glucose tolerance test] 100 g. glucol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fasting, 1h, 2h, 3h serum. Fast @ least 8 hrs. with @ least 150 g. carb intake 3 days prior to test &amp; normal activity lev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76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685800"/>
            <a:ext cx="82296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GTT Diagnostic Thresholds: [ADA 2003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sting Blood Sugar: 95 mg/d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ink 100 g gluco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hour: 180 mg/dL plasma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hour: 155 mg/d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hour: 140 mg/d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agnosis of GDM made if 2 or more values ^ than above plasma leve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*May try standard diabetic die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st *depend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lab val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itiate insulin for fasting &gt; 95 &amp; 2hr postprandial &gt;120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8088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nterventions: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ntepar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al: strict glucose contr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 immediate education to pt./famil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 diabetic diet [2000-2500 cal/day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bution of calori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0-50% carbs, 20% protein, 30-40% fat, (&lt;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rom saturated fat,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olyunsaturated, rest monounsaturate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commend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meals &amp; 3 snacks evenly space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avoid swings in blood glucose. Snack @ bedtim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00 mg/day calcium, 30 mg/day iron, 4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cg/day fol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82296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yperemesis co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/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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y mouth, thirst, substantial wt. loss, signs of starvation,  dehydration, decreased skin turgor; fruity breath - acidosis [metabolizing fat]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ment: admit to hospital for IV hydra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PO then clears &gt; full fluids&gt; sm. solid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lan or Zofran IVPB q 6 hr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sp. for 24-48 hrs. Add Multi Vit.&amp; K to IVF to correct  electrolyte imbalanc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½ 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tepartum Interventions Co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rcise [walking, swimming] 30 min.3-4 x/w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 daily glucose self-monitoring &amp; urine testin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ach monitoring of fasting &amp; postprandial leve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f diet can’t control glucose, start insul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r &amp; NPH insulin &lt; breakfast &amp; dinne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es not cross placenta. Abdomen si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se based on weight &amp; gestational ag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ese pts. ^ do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DM - Interventions cont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21932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rapartum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itor glucose levels q 2hr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insulin given @ 100mg/dL or &lt;]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ostpartum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return to normal &gt; de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% pts. with GDM develop type I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ater in lif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 wk. PP serum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ildren of GDM pts. ^ risk for obesity/diabetes in childhood/adolesce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0666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48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iabetes Mellitu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order of fat, CH0 [carbs], protein metabolis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d by insensitivity to insulin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artial or complete lack of insulin secretion by beta cells of pancre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oses organs to chronic hyperglycemia causing tissue dam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609480"/>
            <a:ext cx="82296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 I 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DD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predates pregnanc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immune destruction of beta cells of pancreas resulting in absolute insulin deficie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als &lt; 30 yrs.; any age.  Affects ~ 1-3/1000 pre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xogenous insuli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prevent ketoacidosi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ptoms: polyuria, polydipsia, significa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ight loss.  Do HgbA1c ASAP to assess rec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um glucose leve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27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ype I  co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371600"/>
            <a:ext cx="822960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imest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ogenous insulin needs may drop 10-2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ypoglycemia d/t fluctuations &amp; N/V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lf of pregnancy (&gt; 20 wks.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sulin needs ^ by 50–60% for Type I &amp; II, respectively compared to pre-pregnanc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e higher levels of depression which negatively affects glucose contr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ype I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. insuli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rporate exercise &amp; diet into daily routi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itor glucose levels 5-6/da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docrinologist during pregnanc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ls @ set interval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ach pt. s/s hypo &amp; hyperglycemi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oal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ucose control reduces risk of complications for pt. &amp; fe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520"/>
            <a:ext cx="82296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ype II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common; individuals &gt; 30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nt data [AMA 2001] 9.1% ^ in 18-29 yrs.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&amp;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9.9% ^ in 30–39 yrs. [1990 to 1998]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bination of insulin resistance &amp; inadequate insulin produc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wer sympto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nger to dx (~ 6.5 yrs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esity prevalent in type I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y require exogenous insulin; may be controlled w.diet &amp; exercise al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-205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Pre-Conception Planning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egin during reproductive years with hx of type I &amp; I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tain normal A1C 3-6 mos. before conception &amp; during organogenesis (6-8 wks) - minimize risk of spontaneous AB &amp; congenital anomal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1C level &gt; 7: ^ risk for congenital anomalies &amp; miscarriage. Normal A1C = 4-6 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disciplinary team: nutritionist, endocrinologist, high risk OB nur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ucate pt.- managing diet, activity, insul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ily food diary to assess complianc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me visits by RN as need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rdiac Diseas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aired cardiac function mainly fr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enital/rheumatic heart diseas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lass Descrip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lass I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unrestricted physical activi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ymptoms of cardiac insufficienc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lass II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slight limitation physical activi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lass III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d. limitation physical activi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lass IV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No physical activ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57200"/>
            <a:ext cx="82296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SKS FOR MATERNAL MORTALITY CAUSED BY VARIOUS HEART DISEAS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diac Disorder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roup 1 - Mortality (0-1 %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D; VSD; PDA; Pulmonic or tricuspid disea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tralogy of Fallot (corrected), Bioprosthetic valve; Mitral steno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roup 2 – (5-15%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ortic stenosis; Coarctation without val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olvement, Tetralogy of Fallot (uncorrected)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vious MI, Mitral stenosis with AF, artificial val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roup 3 – (25-50%)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rfan Syndrome; MI; pulmonary HTN; Cardiomyopath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roup 4 – (&gt; 50%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F; advanced pulmonary ed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572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datidaform mole - "Molar preg."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generative disorder of trophoblast (placen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lli degenerate &amp; cells fill with flu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 clusters of vesicles; similar to “grapes”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growth of chorionic villi; fetus does not develop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al or complete. Complete - no fetus; Partial -  dev. begins then stop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parous/older wom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thophysiology: unknown; theories:   chromosomal abn., hormonal imbalances; protein/folic acid deficienci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al: optimal uteroplacental perfu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orough medical hx: rheumatic heart dis., scarlet fever, lupus, renal dis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rth defects involving heart &amp;/or valv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ess symptoms: SOB, chronic cough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hythmias, palpitations, dyspnea @ rest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dache, chest pain, etc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mily Hx of cardiac diseas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P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 tests:12 lead EKG, echo, stress test, CBC, SMA12, uric acid levels, O2sat, CxR; ABG’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sks ^ with maternal age &amp; parit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3352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rrhythmi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 In Pregnancy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to convert to sinus rhythm or control ventricular rate by beta-blockers or digoxi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etal-Neonatal Implicatio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l Prognosis: proceed with pregnancy if diseas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rolled and mild to moderate.  EX. severe valve damage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sible termination advised d/t ^ risk maternal mortalit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rect valve lesions before preg. *Pre-conception planni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533520"/>
            <a:ext cx="84582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ipartum Cardiomyopathy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1 in 3000-4000 pregnanci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ing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rdiac failure last month of preg. or within 5 months PP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sence of specific etiology for cardiac failur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sence of cardiac disease &lt; last month of preg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ympto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nal dyspnea, cough, orthopnea [diff.breathing when lying down] &amp; palpitation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nagemen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inimize decreased cardiac performan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nticoagulants during/after deliver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incidence of embolic even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gnos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: 50% pt. recover good ventricular function with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mos.of delivery; 50% have persistent cardiomegaly w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rtality of 80%. Must weigh risks/benefits to mom/fetu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-8424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fec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 Urinary Tract Infection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d by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E coli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Klebsiella, Proteu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&amp;S: Asymptomatic Bacteriuria = + bacteria in urine cx w.no symptoms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x: Early pregnancy: oral sulfonomides Bactrim]; Late: ampicillin, furodanti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left untreated, infection lead to acute pyelonephrit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TL; sexual activity &gt; UT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ystitis (lower UTI) - Same organis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&amp;S: Dysuria, urgency, frequency, low grade fever, clean catch leukocytes &gt;100,0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e as UTI; Same as U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. Acute Pyelonephritis - infection of kidney. Caused by s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&amp;S: chills, fever, flank pain,dysyria, low urine output, ^ B/P, N/V, WBCs, dx with + urine cult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x: Hospitalization, IVAB; Safe meds.during pregnancy: Bactrim, a flouroquinolone (Cipro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risk of premature birth &amp; IUG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685800"/>
            <a:ext cx="82296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. Monilial Vaginal Inf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d:  80% candida albicans. Caused by change in normal vaginal Ph; ph &lt; 5 - acidic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&amp;S: Thick white curdy discharge, sev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ching dysuria. Wet Mount: hyphae, budding yeast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sk Factors: HIV, DM, pregnancy, stress, AB t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x: Intravaginal miconazole  suppositories @ hs for 1 w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Teach:  yogurt in diet; no douching; cotton underwe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lic: Fetus may contact thrush dur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ivery. Tx baby w.oral nystatin 1cc q 6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ant with thrush may give it to mom when breast fdg. Apply nystat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acterial Vaginosis &amp; Trichomonia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295280"/>
            <a:ext cx="8229600" cy="70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V: Overgrowth of Gardnerella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[normal vaginal flora]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ss of protective lactobacilli bacteria. Aka vaginiti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, watery vaginal dc with fishy odor. Clue cells seen under microscope. Vaginal ph &gt;5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X with Flagyl [Metronidazole 500mg BID x 7 days. Do not take med with alcohol. Similar to Antabuse –severe N/V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sk factor for PTL and PRO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ichomoniasis: Different organism caused by parasite Trichomonas vaginalis. Vaginal discharge (thin, greenish-yellow, frothy or foamy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me tx as above. Safe in pregnanc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sk factor for PTL and PRO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. STD’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lamydi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d By: bacterium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hlamydia trachoma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ost common STI in U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ID &gt; infertility by blocking tub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ten asymptomatic. Thin/purulent discharge, burning &amp; frequency w.urination, lower abd. pai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gnant women: Zithromax 1 g single dose; amoxicillin  x 7 day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born conjunctivitis (erythromycin ointment), neonatal pneumonia,  PTL, fetal death. Perinatal transmission occurs in 50% infants where mom is infected @ time of de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norrhe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14300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used by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isseria Gonorrhea. Bacterial 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an lead to PID &gt; infertility.  Green frothy d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ften asymptomatic in females; males have burning with urination &amp; penile d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x - vaginal or urine cx.DOH notifies partn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x with Rocephin IM [ceftriaxone]. Zithromax [azithromycin] 1 g single dose or amoxicillan p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D – caused by both. Cramping, fever, chills, purulent dc, N/V, uterine swelling, adnexal &amp; cervical  tenderness. Multiple sex partners, no condoms. Tx with Doxycycline po (contraindicated in pregnancy) &amp; Rocephin IM. Clinda/genta/rocephin if pregnant.  May need hospitaliz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rp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295280"/>
            <a:ext cx="822960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ral infection – no c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SV I – oral [cold sore] outer les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SV 2 – genital – painful, open lesion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sicles rupture &amp; appear right after exposure or within 20 day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rning sensation with urination is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ig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drome “tingling” occurs before new outbrea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breaks several times/y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x: vaginal cx or blood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x: Acyclovir or Valtrex 500 mg once/day during pregnancy reduces viral load enough to deliver vaginal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0800000">
            <a:off x="457200" y="-10980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3352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ydatidaform Mole co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/S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om bright red spotting to bright red hemorrh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ssue resembles grape clus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erus appears larger than expected for gest. 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D&amp;C; go to hosp. STAT; bring any passed tissu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ational trophoblastic disease”  - benign hydatidaform mole &amp; gestational trophoblastic tumors aka &amp; chori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arcinoma.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yphili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eponema  Palladium [Spirochet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]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rimary Stag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painless sores, “chancre”, approximately 2-3 wks &gt; initial exposure. fever, malais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econdary Stag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6 wks to 6 mos. Skin eruptions, arthritis, liver enlarged, sore throat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x: VDRL, RPR, FTA-ABS (more specific), Dark field exam: for spirochetes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x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1 yr  2.4 million u benzathine penicillin x 1 do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gt;1 yr  SAME MED 1x/wk x 3 wk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xual partners screened /tx.  [allergic to PCN]: tx ceftriazone &gt;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rimest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~ 40% chance of  stillbirth or death &gt; birth. Infant may be born w. “congenital syphilis”.   Opthalmia neonatorium: can cause blindness.  Appears as conjunctivitis in newborn.  Give baby PCN q day x10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5720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ITAL WARTS – virus [aka condyloma]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ft pink lesions on vulva, vagina, cervix, anus. “Cauliflower appearance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PV Types 6 and 11 cause 90% of genital war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120 strains HP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x: Trichloroacetic acid, Aldara.  Category 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nefits (pregnancy) may be acceptable over potential  risk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act occurs during vaginal birth. Infant may have laryngeal war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ardasil Vaccine: 3 dos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PV Types 16 &amp; 18 – [70% cervical cancer] and Types 6 &amp; 11 – [90% genital warts]  Can be given to males als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33520"/>
            <a:ext cx="82296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morrhagic Disord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lacenta previ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lantation near or over cervix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~ 1/2 of all preg. start as previa then placenta shifts to higher pos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35 wks. not likely to shif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ing Degre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otal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nternal cervical os completely covered by placen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arti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os partially covered by placen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argin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edge @ margin of internal o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ow-ly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region of internal o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lacen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-2509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CENTA PREVIA CONT…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us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isk factor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multiparity, AMA, multiple gestations, previous uterine surge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isfesta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Painless, bright red bleeding &gt; 20th week; episodic, starts without warning,  stops &amp; starts aga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gnos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depends on amt. bleeding &amp; gest.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Monitor FH,  maternal VS, IVF;  O2; assess I&amp;O; amt. of bleeding, CBC, &amp; complete BR. Type &amp; cross for poss.transfu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ltrasound to confir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pelvic exams/no vag. del.- May lead to hemorrh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5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-1908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bruptio placent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aration of placenta from uterine wall &gt; 20th wk gestation  (during pregnanc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ntal Abruption”- hemorrhage results; Severity depends 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degre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separation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on in multips, A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tal prognosis depends on blood lost &amp; gest. 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Grade 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Separation not apparent until placenta examined &gt; deliver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Grade 1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minimal - causes vaginal bleeding &amp; alterations in maternal V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Grade 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moderate -  + signs of fetal distress. Uterus tense &amp; painful when palpa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Grade 3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xtreme (total) separation. Maternal shock/fetal death if immediat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vention not do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0:40:25Z</dcterms:created>
  <dc:creator>CARMEN KIRALY</dc:creator>
  <dc:description/>
  <dc:language>en-US</dc:language>
  <cp:lastModifiedBy>Carmen Kiraly</cp:lastModifiedBy>
  <dcterms:modified xsi:type="dcterms:W3CDTF">2010-11-17T21:25:09Z</dcterms:modified>
  <cp:revision>115</cp:revision>
  <dc:subject/>
  <dc:title>High Risk Pregnancy</dc:title>
</cp:coreProperties>
</file>