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13A-174B-4991-BE0D-C4C33602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680-667F-4F27-BE19-071ABCB4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E2F-35A4-465D-9F9A-F396737B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3E1-7B04-419A-87ED-6E408AE1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E01-E487-4A51-862F-7BF2A958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473-3C36-49AE-8B01-FD651292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520-28FE-46B7-B43C-B3799DE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8D0-571E-4549-A6DD-B14B4C0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32F-0251-4887-BA26-8D11653B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04A-C99E-4E4F-9EE7-F8E575A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22A-3678-4453-B83A-C8FAF7D8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D26-517A-4998-B8B3-D2EA597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FF9A9AA-2C5E-4243-AD04-51B8A8BC1956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محل ارائه خدمت : غیر انتخابی و باید کلمه کلیدی به عنوان مثال ورزش تایپ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252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57240" y="898560"/>
            <a:ext cx="906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le 1"/>
          <p:cNvSpPr/>
          <p:nvPr/>
        </p:nvSpPr>
        <p:spPr>
          <a:xfrm>
            <a:off x="1403280" y="2492280"/>
            <a:ext cx="647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5003640" y="5373720"/>
            <a:ext cx="792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5003640" y="589104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r.Meshkati</cp:lastModifiedBy>
  <dcterms:modified xsi:type="dcterms:W3CDTF">2023-07-08T12:01:21Z</dcterms:modified>
  <cp:revision>614</cp:revision>
  <dc:subject/>
  <dc:title>Diapositiva 1</dc:title>
</cp:coreProperties>
</file>